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6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2CF-654A-40A5-9B1E-3C90A622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822-0B26-449B-B073-34AACF61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F834-2D2E-40A5-AA08-FA03A821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F4BD-0443-4653-A1CA-71B9C3AE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4749-CC33-45C1-9ACD-63539262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6ECE-B551-4AE6-A52C-BCE76899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7A4-028E-4D27-80D6-5FD46F56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3CC-5BBD-4259-B1A5-89771E79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05A2-8F91-4F49-8A1D-DD03C542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6B97-44E3-4C16-97EA-A6449615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D795-04E8-4713-97C7-C58D81D0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3381-1E17-4517-AAAB-E267B415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2A42-25F0-4426-99A4-69578F15A6D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Goldfish bowl 1.jpg"/>
          <p:cNvPicPr/>
          <p:nvPr/>
        </p:nvPicPr>
        <p:blipFill>
          <a:blip r:embed="rId2"/>
          <a:stretch/>
        </p:blipFill>
        <p:spPr>
          <a:xfrm>
            <a:off x="7359480" y="5067360"/>
            <a:ext cx="1784520" cy="17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nthro.palomar.edu/animal/elephant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Classification</a:t>
            </a:r>
            <a:endParaRPr b="1" lang="en-US" sz="72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94216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UL Biology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R Jefferson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r. O’Con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410080" cy="419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43200" y="53341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re do I bel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0C6-B138-403B-9F6B-10E665397D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New Categorizing Techniques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dvances in the technology … molecular methods for classification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pare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N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different organism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degree of similarity in DNA between the organisms is proportional to the organisms relatednes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737-54F5-492E-B7BB-955FE79630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900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5 Kingdoms of Life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95560" y="1600200"/>
            <a:ext cx="4952880" cy="4952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971800" cy="153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47F-EC97-4DDD-B86D-E04AA164F8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1442880"/>
            <a:ext cx="6248520" cy="5050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743200" y="1720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304920"/>
            <a:ext cx="556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  <a:ea typeface="Arial"/>
              </a:rPr>
              <a:t>6 Kingdoms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D03A-07CC-45B8-9674-570EAD4658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Kingdom Monera or Eubacteria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or absorb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ptidoglyc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Text Placeholder 2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F9F-6BA0-4B89-81AB-C8EE29FC6F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Kingdom Archaea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or absorb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to Eukaryo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seudopeptidoglyc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protein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Text Placeholder 2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2825640" cy="22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6C03-AAEA-42DD-822B-844D2DDC80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Kingdom Protista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gest or produce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Text Placeholder 2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D7BD-1FC2-4F26-AAC1-279BE29E95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Kingdom Fungi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cellu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orb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Text Placeholder 2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800600" cy="295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707-B486-4331-8EA7-6931C037B2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Kingdom Plantae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cellu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ul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otosyn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Text Placeholder 2" descr=""/>
          <p:cNvPicPr/>
          <p:nvPr/>
        </p:nvPicPr>
        <p:blipFill>
          <a:blip r:embed="rId1"/>
          <a:stretch/>
        </p:blipFill>
        <p:spPr>
          <a:xfrm>
            <a:off x="4419720" y="1828800"/>
            <a:ext cx="4267080" cy="277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88B9-6FE1-46A4-97EB-DFD2512E36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Kingdom Animalia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cellu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ell w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gest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t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Text Placeholder 2" descr=""/>
          <p:cNvPicPr/>
          <p:nvPr/>
        </p:nvPicPr>
        <p:blipFill>
          <a:blip r:embed="rId1"/>
          <a:stretch/>
        </p:blipFill>
        <p:spPr>
          <a:xfrm>
            <a:off x="4267080" y="1447920"/>
            <a:ext cx="3359160" cy="42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5D0-B852-41B4-B70F-7197B3D910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Terminology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ing organisms to different catagories based on their relation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xon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cience of naming organ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a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evolutionary relationships of organ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yloge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olutionary his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Text Placeholder 2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495680" cy="290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107-5EF0-4258-94B3-39131B89DC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Aristotle 384 BC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ified organisms as either plants or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Text Placeholder 2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2757600" cy="358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C56-18C1-4B0E-A34A-43294EA325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Cladogram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olutionary relationship  of a group of organis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clad (group) share something in comm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cestral traits are the old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rived traits evolved l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Text Placeholder 2" descr=""/>
          <p:cNvPicPr/>
          <p:nvPr/>
        </p:nvPicPr>
        <p:blipFill>
          <a:blip r:embed="rId1"/>
          <a:stretch/>
        </p:blipFill>
        <p:spPr>
          <a:xfrm>
            <a:off x="4343400" y="2209680"/>
            <a:ext cx="4800600" cy="288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46A-7554-4A76-A348-BA6767BBB9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ext Placeholder 2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4800600" cy="28018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Cladogram for Transportation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els are  the most ancest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gs are the most deriv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AC4-8924-44FD-8329-E9E2021C21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990720" y="762120"/>
            <a:ext cx="7695000" cy="5637600"/>
            <a:chOff x="990720" y="762120"/>
            <a:chExt cx="7695000" cy="5637600"/>
          </a:xfrm>
        </p:grpSpPr>
        <p:sp>
          <p:nvSpPr>
            <p:cNvPr id="107" name=""/>
            <p:cNvSpPr/>
            <p:nvPr/>
          </p:nvSpPr>
          <p:spPr>
            <a:xfrm flipV="1">
              <a:off x="1540080" y="1730160"/>
              <a:ext cx="5222160" cy="466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1448280" y="3638520"/>
              <a:ext cx="1099080" cy="184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272680" y="2948040"/>
              <a:ext cx="1099080" cy="184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3097440" y="2142720"/>
              <a:ext cx="1099080" cy="184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3921840" y="1452240"/>
              <a:ext cx="1099080" cy="184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372480" y="762120"/>
              <a:ext cx="5038560" cy="520560"/>
              <a:chOff x="3372480" y="762120"/>
              <a:chExt cx="5038560" cy="520560"/>
            </a:xfrm>
          </p:grpSpPr>
          <p:sp>
            <p:nvSpPr>
              <p:cNvPr id="113" name=""/>
              <p:cNvSpPr/>
              <p:nvPr/>
            </p:nvSpPr>
            <p:spPr>
              <a:xfrm>
                <a:off x="3372480" y="762120"/>
                <a:ext cx="2656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Arial"/>
                  </a:rPr>
                  <a:t>Gorill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54600" y="762120"/>
                <a:ext cx="265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Arial"/>
                  </a:rPr>
                  <a:t>Chimpanze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548080" y="1452240"/>
              <a:ext cx="265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Arial"/>
                </a:rPr>
                <a:t>Tig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31880" y="2372760"/>
              <a:ext cx="265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Lizar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0720" y="3063240"/>
              <a:ext cx="265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504d"/>
                  </a:solidFill>
                  <a:latin typeface="Arial"/>
                </a:rPr>
                <a:t>F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3006360" y="4789080"/>
              <a:ext cx="4946760" cy="520560"/>
              <a:chOff x="3006360" y="4789080"/>
              <a:chExt cx="4946760" cy="520560"/>
            </a:xfrm>
          </p:grpSpPr>
          <p:sp>
            <p:nvSpPr>
              <p:cNvPr id="119" name=""/>
              <p:cNvSpPr/>
              <p:nvPr/>
            </p:nvSpPr>
            <p:spPr>
              <a:xfrm>
                <a:off x="3006360" y="5133960"/>
                <a:ext cx="11905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105440" y="4789080"/>
                <a:ext cx="384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Four Limb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3738960" y="4098600"/>
              <a:ext cx="4946760" cy="520560"/>
              <a:chOff x="3738960" y="4098600"/>
              <a:chExt cx="4946760" cy="520560"/>
            </a:xfrm>
          </p:grpSpPr>
          <p:sp>
            <p:nvSpPr>
              <p:cNvPr id="122" name=""/>
              <p:cNvSpPr/>
              <p:nvPr/>
            </p:nvSpPr>
            <p:spPr>
              <a:xfrm>
                <a:off x="3738960" y="4443480"/>
                <a:ext cx="11908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38040" y="4098600"/>
                <a:ext cx="384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Fu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4876920" y="3505320"/>
            <a:ext cx="4114800" cy="520560"/>
            <a:chOff x="4876920" y="3505320"/>
            <a:chExt cx="4114800" cy="520560"/>
          </a:xfrm>
        </p:grpSpPr>
        <p:sp>
          <p:nvSpPr>
            <p:cNvPr id="125" name=""/>
            <p:cNvSpPr/>
            <p:nvPr/>
          </p:nvSpPr>
          <p:spPr>
            <a:xfrm>
              <a:off x="4876920" y="373392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1320" y="350532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il Lo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193-16FE-491E-ADAA-6C7E7358BD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Gorilla Tail?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we know the gorilla lost its tai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Text Placeholder 2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467160" cy="34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3FD-2D09-4D43-89D2-9DD1B2B33A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Gorilla’s Vestigial Tail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pic>
        <p:nvPicPr>
          <p:cNvPr id="131" name="Text Placeholder 2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4038480" cy="2712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743200" y="5257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r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724280" y="2362320"/>
            <a:ext cx="4038840" cy="3355200"/>
            <a:chOff x="4724280" y="2362320"/>
            <a:chExt cx="4038840" cy="3355200"/>
          </a:xfrm>
        </p:grpSpPr>
        <p:pic>
          <p:nvPicPr>
            <p:cNvPr id="134" name="Text Placeholder 2" descr=""/>
            <p:cNvPicPr/>
            <p:nvPr/>
          </p:nvPicPr>
          <p:blipFill>
            <a:blip r:embed="rId2"/>
            <a:stretch/>
          </p:blipFill>
          <p:spPr>
            <a:xfrm>
              <a:off x="4724280" y="2362320"/>
              <a:ext cx="4038840" cy="29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248520" y="52578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um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7D4-BE22-4825-9888-E569E0BD2C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Synapomorphy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erived character shared by two or more grou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r is a synapomorphy for the various groups of mamm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apomorphies are used to determine evolutionary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506C-BE6E-4372-AEF6-31B0EA845C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Phylogenetic Tree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pic>
        <p:nvPicPr>
          <p:cNvPr id="139" name="Text Placeholder 2" descr=""/>
          <p:cNvPicPr/>
          <p:nvPr/>
        </p:nvPicPr>
        <p:blipFill>
          <a:blip r:embed="rId1"/>
          <a:srcRect l="4597" t="4162" r="4600" b="7053"/>
          <a:stretch/>
        </p:blipFill>
        <p:spPr>
          <a:xfrm>
            <a:off x="1066680" y="1676520"/>
            <a:ext cx="6248520" cy="50623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867280" y="76320"/>
            <a:ext cx="3657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ws evolutionary relationsh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historical than clad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5C3-AD38-460F-A759-2AB85F2D14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304920" y="304920"/>
            <a:ext cx="8838720" cy="5333400"/>
            <a:chOff x="304920" y="304920"/>
            <a:chExt cx="8838720" cy="5333400"/>
          </a:xfrm>
        </p:grpSpPr>
        <p:sp>
          <p:nvSpPr>
            <p:cNvPr id="142" name=""/>
            <p:cNvSpPr/>
            <p:nvPr/>
          </p:nvSpPr>
          <p:spPr>
            <a:xfrm rot="1749600">
              <a:off x="5410080" y="990000"/>
              <a:ext cx="380520" cy="1218960"/>
            </a:xfrm>
            <a:prstGeom prst="upArrow">
              <a:avLst>
                <a:gd name="adj1" fmla="val 50000"/>
                <a:gd name="adj2" fmla="val 80085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9659600">
              <a:off x="3412800" y="1047240"/>
              <a:ext cx="380520" cy="1218960"/>
            </a:xfrm>
            <a:prstGeom prst="upArrow">
              <a:avLst>
                <a:gd name="adj1" fmla="val 50000"/>
                <a:gd name="adj2" fmla="val 80085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66880" y="4800600"/>
              <a:ext cx="3580920" cy="83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38480" y="5029200"/>
              <a:ext cx="29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i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66880" y="3429000"/>
              <a:ext cx="3580920" cy="83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2057400"/>
              <a:ext cx="3580920" cy="83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04920"/>
              <a:ext cx="3581280" cy="838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29200" y="304920"/>
              <a:ext cx="3580920" cy="838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33560" y="3581280"/>
              <a:ext cx="29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mphibi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86200" y="2286000"/>
              <a:ext cx="29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ti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71600" y="533160"/>
              <a:ext cx="29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i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72200" y="457200"/>
              <a:ext cx="29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mm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67080" y="4267080"/>
              <a:ext cx="380520" cy="533160"/>
            </a:xfrm>
            <a:prstGeom prst="upArrow">
              <a:avLst>
                <a:gd name="adj1" fmla="val 50000"/>
                <a:gd name="adj2" fmla="val 35028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67080" y="2895480"/>
              <a:ext cx="380520" cy="533160"/>
            </a:xfrm>
            <a:prstGeom prst="upArrow">
              <a:avLst>
                <a:gd name="adj1" fmla="val 50000"/>
                <a:gd name="adj2" fmla="val 35028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135-0461-4333-81A9-4C5AA1BF44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Fish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tebr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eg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odont tee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Text Placeholder 2" descr=""/>
          <p:cNvPicPr/>
          <p:nvPr/>
        </p:nvPicPr>
        <p:blipFill>
          <a:blip r:embed="rId1"/>
          <a:stretch/>
        </p:blipFill>
        <p:spPr>
          <a:xfrm>
            <a:off x="457200" y="2798640"/>
            <a:ext cx="4038480" cy="21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247-9534-423D-8C52-292ED44A0BE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Amphibian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lim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tebr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eg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odont tee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Text Placeholder 2" descr=""/>
          <p:cNvPicPr/>
          <p:nvPr/>
        </p:nvPicPr>
        <p:blipFill>
          <a:blip r:embed="rId1"/>
          <a:stretch/>
        </p:blipFill>
        <p:spPr>
          <a:xfrm>
            <a:off x="457200" y="1816200"/>
            <a:ext cx="4038480" cy="409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D42A-37D3-4223-8D7B-F78368A249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arolus Linnaeus 1707-1778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ification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xonomic groups of related organisms -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AX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nomial nomencl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wo nam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enus spec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504d"/>
                </a:solidFill>
                <a:latin typeface="Calibri"/>
              </a:rPr>
              <a:t>Homo sapi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ext Placeholder 2" descr=""/>
          <p:cNvPicPr/>
          <p:nvPr/>
        </p:nvPicPr>
        <p:blipFill>
          <a:blip r:embed="rId1"/>
          <a:stretch/>
        </p:blipFill>
        <p:spPr>
          <a:xfrm>
            <a:off x="5562720" y="1447920"/>
            <a:ext cx="30016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33E-71A2-4520-AF40-1B7044B676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Reptile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lim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tebr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niotic eg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odont tee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Text Placeholder 2" descr=""/>
          <p:cNvPicPr/>
          <p:nvPr/>
        </p:nvPicPr>
        <p:blipFill>
          <a:blip r:embed="rId1"/>
          <a:stretch/>
        </p:blipFill>
        <p:spPr>
          <a:xfrm>
            <a:off x="495360" y="1982880"/>
            <a:ext cx="3962520" cy="37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E042-4F62-4D7E-8808-B9F9A990726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Bird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lim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tebr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niotic eg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tee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otherm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Text Placeholder 2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4038480" cy="33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D106-86EA-4BAC-9018-071DD18949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Mammal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lim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tebr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niotic eg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terodont tee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r or 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otherm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Text Placeholder 2" descr=""/>
          <p:cNvPicPr/>
          <p:nvPr/>
        </p:nvPicPr>
        <p:blipFill>
          <a:blip r:embed="rId1"/>
          <a:stretch/>
        </p:blipFill>
        <p:spPr>
          <a:xfrm>
            <a:off x="1333440" y="2146320"/>
            <a:ext cx="2286000" cy="343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935E-02B3-4091-9A98-540EA64FB34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1828800" y="1828800"/>
            <a:ext cx="7162920" cy="3736440"/>
            <a:chOff x="1828800" y="1828800"/>
            <a:chExt cx="7162920" cy="3736440"/>
          </a:xfrm>
        </p:grpSpPr>
        <p:sp>
          <p:nvSpPr>
            <p:cNvPr id="172" name=""/>
            <p:cNvSpPr/>
            <p:nvPr/>
          </p:nvSpPr>
          <p:spPr>
            <a:xfrm flipV="1">
              <a:off x="2286000" y="2437920"/>
              <a:ext cx="4343400" cy="312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209680" y="3733920"/>
              <a:ext cx="91440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2895480" y="3276720"/>
              <a:ext cx="91440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3581280" y="2742840"/>
              <a:ext cx="9144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4267080" y="2285640"/>
              <a:ext cx="9144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182880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Bi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19920" y="19810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Mamm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4080" y="228600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Rept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09680" y="28954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Amphibi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28800" y="33526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504d"/>
                  </a:solidFill>
                  <a:latin typeface="Arial"/>
                </a:rPr>
                <a:t>Fi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5320" y="472428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19720" y="44956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ur Lim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114800" y="4038480"/>
              <a:ext cx="4114800" cy="459720"/>
              <a:chOff x="4114800" y="4038480"/>
              <a:chExt cx="4114800" cy="459720"/>
            </a:xfrm>
          </p:grpSpPr>
          <p:sp>
            <p:nvSpPr>
              <p:cNvPr id="185" name=""/>
              <p:cNvSpPr/>
              <p:nvPr/>
            </p:nvSpPr>
            <p:spPr>
              <a:xfrm>
                <a:off x="4114800" y="4267080"/>
                <a:ext cx="9907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029200" y="4038480"/>
                <a:ext cx="320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mniotic Eg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4876920" y="373392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91320" y="3505320"/>
              <a:ext cx="3200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dotherm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86400" y="3276720"/>
              <a:ext cx="990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30481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274320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00600" y="23623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eath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90920" y="533412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51055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rtebra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062-5007-448D-B668-E2E9A6400B5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228600" y="0"/>
            <a:ext cx="7162920" cy="3736440"/>
            <a:chOff x="228600" y="0"/>
            <a:chExt cx="7162920" cy="3736440"/>
          </a:xfrm>
        </p:grpSpPr>
        <p:sp>
          <p:nvSpPr>
            <p:cNvPr id="196" name=""/>
            <p:cNvSpPr/>
            <p:nvPr/>
          </p:nvSpPr>
          <p:spPr>
            <a:xfrm flipV="1">
              <a:off x="685800" y="609120"/>
              <a:ext cx="4343400" cy="312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609480" y="1905120"/>
              <a:ext cx="91440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1295280" y="1447920"/>
              <a:ext cx="91440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1981080" y="914040"/>
              <a:ext cx="9144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2666880" y="456840"/>
              <a:ext cx="9144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09680" y="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Bi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9720" y="1522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Mamm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3880" y="45720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Rept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9480" y="10666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Amphibi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" y="15238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504d"/>
                  </a:solidFill>
                  <a:latin typeface="Arial"/>
                </a:rPr>
                <a:t>Fi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05120" y="289548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9520" y="26668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ur Lim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2514600" y="2209680"/>
              <a:ext cx="4114800" cy="459720"/>
              <a:chOff x="2514600" y="2209680"/>
              <a:chExt cx="4114800" cy="459720"/>
            </a:xfrm>
          </p:grpSpPr>
          <p:sp>
            <p:nvSpPr>
              <p:cNvPr id="209" name=""/>
              <p:cNvSpPr/>
              <p:nvPr/>
            </p:nvSpPr>
            <p:spPr>
              <a:xfrm>
                <a:off x="2514600" y="2438280"/>
                <a:ext cx="9907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429000" y="2209680"/>
                <a:ext cx="320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mniotic Eg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3276720" y="190512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91120" y="1676520"/>
              <a:ext cx="3200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dotherm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86200" y="1447920"/>
              <a:ext cx="990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76920" y="12193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48120" y="91440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00400" y="5335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eath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90720" y="350532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05120" y="3276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rtebra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885840" y="3962520"/>
            <a:ext cx="5257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Synapomorph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Four limbs for amphibians, reptiles, birds &amp; mamm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Amniotic egg for reptiles, birds &amp; mamm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B14-5459-4D4D-90E0-3E4F9C94C38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Symplesiomorphy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acteristic shared by a number of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erited from ancestors older than the last common ances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plesiomorphies  are not helpful in determining evolutionary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4007-B665-4842-973A-D56A7B09A70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228600" y="0"/>
            <a:ext cx="7162920" cy="3736440"/>
            <a:chOff x="228600" y="0"/>
            <a:chExt cx="7162920" cy="3736440"/>
          </a:xfrm>
        </p:grpSpPr>
        <p:sp>
          <p:nvSpPr>
            <p:cNvPr id="223" name=""/>
            <p:cNvSpPr/>
            <p:nvPr/>
          </p:nvSpPr>
          <p:spPr>
            <a:xfrm flipV="1">
              <a:off x="685800" y="609120"/>
              <a:ext cx="4343400" cy="312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609480" y="1905120"/>
              <a:ext cx="91440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1295280" y="1447920"/>
              <a:ext cx="91440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1981080" y="914040"/>
              <a:ext cx="9144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2666880" y="456840"/>
              <a:ext cx="9144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09680" y="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Bi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19720" y="1522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Mamm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23880" y="45720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Rept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9480" y="10666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Amphibi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8600" y="15238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504d"/>
                  </a:solidFill>
                  <a:latin typeface="Arial"/>
                </a:rPr>
                <a:t>Fi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05120" y="289548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19520" y="26668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ur Lim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514600" y="2209680"/>
              <a:ext cx="4114800" cy="459720"/>
              <a:chOff x="2514600" y="2209680"/>
              <a:chExt cx="4114800" cy="459720"/>
            </a:xfrm>
          </p:grpSpPr>
          <p:sp>
            <p:nvSpPr>
              <p:cNvPr id="236" name=""/>
              <p:cNvSpPr/>
              <p:nvPr/>
            </p:nvSpPr>
            <p:spPr>
              <a:xfrm>
                <a:off x="2514600" y="2438280"/>
                <a:ext cx="9907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429000" y="2209680"/>
                <a:ext cx="320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mniotic Eg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3276720" y="190512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91120" y="1676520"/>
              <a:ext cx="3200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dotherm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86200" y="1447920"/>
              <a:ext cx="990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76920" y="12193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8120" y="91440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0400" y="5335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eath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90720" y="3505320"/>
              <a:ext cx="99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05120" y="3276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rtebra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885840" y="3962520"/>
            <a:ext cx="5257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plesiomorph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tebrae for amphibians, reptiles, birds &amp; mamm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limbs for reptiles, birds &amp; mamm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DCD-41C7-40E2-9AB0-B5F8D8F762C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Keys to Describing Physical Characteristics</a:t>
            </a:r>
            <a:endParaRPr b="1" lang="en-US" sz="40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t for all parties to understand descri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common termi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620D-98CD-45F5-9100-83282A0462C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62784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-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8920" y="91440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. 7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76960" cy="4954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0" y="91440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320" y="6324480"/>
            <a:ext cx="12189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2133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gittal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2760" y="45720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ateral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DF0F-B343-42D4-919D-E2D0EFC1788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Anatomical Terms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 end (front side in upright ma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il end (back side in upright ma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r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 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t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ly 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405-6A13-446F-B42F-91695B2BC63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sts classify organisms and assign each organism a universally accepted n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zza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66880" y="4343400"/>
            <a:ext cx="1928880" cy="1386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95480" y="5867280"/>
            <a:ext cx="1600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5867280"/>
            <a:ext cx="1600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aw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486400" y="4267080"/>
            <a:ext cx="1611360" cy="1486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What is Taxonomy?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5F2D-2B8B-482D-8C86-E2D1855B4E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Anatomical Terms (cont)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 to the mid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 to the 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way from the main 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xi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 to the main 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CD5-3753-466D-945B-C4011C3A046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Anatomical Terms (cont)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with the mou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posite end of the mou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phal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ward 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d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ward t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7F0-1866-4E51-924E-8D56AA47B83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Bilateral Symmetry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pic>
        <p:nvPicPr>
          <p:cNvPr id="264" name="Text Placeholder 2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3732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EB6-67CB-4025-B57C-0F84378EBC4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Radial Symmetry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pic>
        <p:nvPicPr>
          <p:cNvPr id="266" name="Text Placeholder 2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190760" cy="413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5D79-4E06-479D-A693-0CCF113AA2B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Asymmetry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pic>
        <p:nvPicPr>
          <p:cNvPr id="268" name="Text Placeholder 2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349092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92C-02C4-4517-8259-F839E007F60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ext Placeholder 2" descr=""/>
          <p:cNvPicPr/>
          <p:nvPr/>
        </p:nvPicPr>
        <p:blipFill>
          <a:blip r:embed="rId1"/>
          <a:stretch/>
        </p:blipFill>
        <p:spPr>
          <a:xfrm>
            <a:off x="1066680" y="0"/>
            <a:ext cx="6096240" cy="56437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alibri"/>
              </a:rPr>
              <a:t>The End</a:t>
            </a:r>
            <a:endParaRPr b="1" lang="en-US" sz="80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9B29-7297-4BF5-B3BD-CAC1447DC1C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ext Placeholder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4854600" cy="6705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86200" y="-3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Taxonomic Groups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A9AE-C798-49B1-BB76-0A49DB2B43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ext Placeholder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010280" cy="525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330E-72A6-48A4-BCA8-0FAC7CE495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lassification of Man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gd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Anima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lu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Chor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Mamma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Prim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Hominid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c0504d"/>
                </a:solidFill>
                <a:latin typeface="Calibri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c0504d"/>
                </a:solidFill>
                <a:latin typeface="Calibri"/>
              </a:rPr>
              <a:t>Hom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c0504d"/>
                </a:solidFill>
                <a:latin typeface="Calibri"/>
              </a:rPr>
              <a:t>sapi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58672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-nomial nomencl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8769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89C9-EA5B-4655-9986-AE0B866D4D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Species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Species are groups of actually or potentially interbreeding populations, which are reproductively isolated from other such group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oductively isolated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Text Placeholder 2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036960" cy="3119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562720" y="50292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Ernst Ma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2CD1-BE82-4653-8A02-3DE12F674A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Categorizing</a:t>
            </a:r>
            <a:endParaRPr b="1" lang="en-US" sz="44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rganisms could  be described in terms of touch, smell, and/or sound as well.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surprisingly, biologists also classify organisms into different categories mostly by judg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grees of apparent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Calibri"/>
              </a:rPr>
              <a:t>similarit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and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Calibri"/>
              </a:rPr>
              <a:t>differ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they can see.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ssumption is that the greater the degree of physical similarity, the closer the biological relationsh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BCA-2957-46AC-9C61-2C76A88173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40:35Z</dcterms:created>
  <dc:creator>DEAnderson</dc:creator>
  <dc:description/>
  <dc:language>en-US</dc:language>
  <cp:lastModifiedBy>joconnor</cp:lastModifiedBy>
  <dcterms:modified xsi:type="dcterms:W3CDTF">2010-11-08T15:42:17Z</dcterms:modified>
  <cp:revision>79</cp:revision>
  <dc:subject/>
  <dc:title>Classification</dc:title>
</cp:coreProperties>
</file>